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95D-A671-4467-BC93-D4F14682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BD4-6F10-4E0C-BD24-CEFC68C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CBC-6ED4-42EA-8ECA-9A255296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188-A6B1-4914-865B-88008EFA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0A6-AF3E-4F61-AC79-B3A2798A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6D5-4883-41FA-9DDC-BD905AF5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B9B-2340-404C-BF4E-CC8E221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866-A4EB-45CB-924E-7C91F5B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BC2-AF17-4976-B8A6-559C04C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E6C-C6C4-43C7-A955-267F6C0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45F-0D57-4776-B9D0-194CE8D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E43-127E-442B-BBFE-DAEB66F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E040-C861-436E-9EB8-DE858A6B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882800" cy="2904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"/>
              </a:rPr>
              <a:t>The Feminist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-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600200" y="7621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How did WWII affect w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eCanDoItPoster%5B1%5D"/>
          <p:cNvPicPr/>
          <p:nvPr/>
        </p:nvPicPr>
        <p:blipFill>
          <a:blip r:embed="rId2"/>
          <a:stretch/>
        </p:blipFill>
        <p:spPr>
          <a:xfrm>
            <a:off x="2743200" y="1523880"/>
            <a:ext cx="34624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RTV00332"/>
          <p:cNvPicPr/>
          <p:nvPr/>
        </p:nvPicPr>
        <p:blipFill>
          <a:blip r:embed="rId3"/>
          <a:stretch/>
        </p:blipFill>
        <p:spPr>
          <a:xfrm>
            <a:off x="1676520" y="1295280"/>
            <a:ext cx="5486400" cy="436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00012C3C"/>
          <p:cNvPicPr/>
          <p:nvPr/>
        </p:nvPicPr>
        <p:blipFill>
          <a:blip r:embed="rId4"/>
          <a:stretch/>
        </p:blipFill>
        <p:spPr>
          <a:xfrm>
            <a:off x="1219320" y="1219320"/>
            <a:ext cx="6248160" cy="446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image?id=18453&amp;rendTypeId=4"/>
          <p:cNvPicPr/>
          <p:nvPr/>
        </p:nvPicPr>
        <p:blipFill>
          <a:blip r:embed="rId5"/>
          <a:stretch/>
        </p:blipFill>
        <p:spPr>
          <a:xfrm>
            <a:off x="1143000" y="1295280"/>
            <a:ext cx="6400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371600" y="609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WII ended in 1945…what happened to women’s r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wifeDM1904_468x550"/>
          <p:cNvPicPr/>
          <p:nvPr/>
        </p:nvPicPr>
        <p:blipFill>
          <a:blip r:embed="rId2"/>
          <a:stretch/>
        </p:blipFill>
        <p:spPr>
          <a:xfrm>
            <a:off x="2438280" y="1676520"/>
            <a:ext cx="3875040" cy="455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371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85800" y="762120"/>
            <a:ext cx="777240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Feminism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belief that men and women should be politically, economically, and socially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JFK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resident’s Commission on th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tatus of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lped pas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qual Pay Ac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women must be paid the same as men for the sam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480" y="685800"/>
            <a:ext cx="792504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Key Feminist Leader (1960s)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doni MT"/>
              </a:rPr>
              <a:t>Betty Frie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t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minine Mystiq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best seller,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me women around the country could connect over the sam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5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t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qual Rights Amendment (ERA)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svFRIEDAN_wideweb__470x461,0"/>
          <p:cNvPicPr/>
          <p:nvPr/>
        </p:nvPicPr>
        <p:blipFill>
          <a:blip r:embed="rId1"/>
          <a:stretch/>
        </p:blipFill>
        <p:spPr>
          <a:xfrm>
            <a:off x="5181480" y="2743200"/>
            <a:ext cx="3048120" cy="299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5"/>
          <p:cNvSpPr/>
          <p:nvPr/>
        </p:nvSpPr>
        <p:spPr>
          <a:xfrm>
            <a:off x="1143000" y="3352680"/>
            <a:ext cx="3962520" cy="2667240"/>
          </a:xfrm>
          <a:custGeom>
            <a:avLst/>
            <a:gdLst>
              <a:gd name="textAreaLeft" fmla="*/ 579960 w 3962520"/>
              <a:gd name="textAreaRight" fmla="*/ 3382560 w 3962520"/>
              <a:gd name="textAreaTop" fmla="*/ 390600 h 2667240"/>
              <a:gd name="textAreaBottom" fmla="*/ 227664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cces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3581280" y="1523880"/>
            <a:ext cx="47246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JFK = Equal Pa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tle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e v. Wade Ruling (controvers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VFAflag"/>
          <p:cNvPicPr/>
          <p:nvPr/>
        </p:nvPicPr>
        <p:blipFill>
          <a:blip r:embed="rId2"/>
          <a:stretch/>
        </p:blipFill>
        <p:spPr>
          <a:xfrm>
            <a:off x="838080" y="1676520"/>
            <a:ext cx="2524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1882800" cy="2904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6212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"/>
              </a:rPr>
              <a:t>The Feminist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71600" y="56386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-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ilm"/>
          <p:cNvSpPr/>
          <p:nvPr/>
        </p:nvSpPr>
        <p:spPr>
          <a:xfrm>
            <a:off x="4191120" y="1828800"/>
            <a:ext cx="990360" cy="1981080"/>
          </a:xfrm>
          <a:custGeom>
            <a:avLst/>
            <a:gdLst>
              <a:gd name="textAreaLeft" fmla="*/ 227160 w 990360"/>
              <a:gd name="textAreaRight" fmla="*/ 783000 w 990360"/>
              <a:gd name="textAreaTop" fmla="*/ 745560 h 1981080"/>
              <a:gd name="textAreaBottom" fmla="*/ 123156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7621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</a:rPr>
              <a:t>Important Court Case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doni MT"/>
              </a:rPr>
              <a:t>Roe v.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VFAflag"/>
          <p:cNvPicPr/>
          <p:nvPr/>
        </p:nvPicPr>
        <p:blipFill>
          <a:blip r:embed="rId2"/>
          <a:stretch/>
        </p:blipFill>
        <p:spPr>
          <a:xfrm>
            <a:off x="838080" y="1676520"/>
            <a:ext cx="2524320" cy="3962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657600" y="1905120"/>
            <a:ext cx="4495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efore 1973 = States regulated abortion, most outlawed its 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Roe v. Wad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Supreme Court Case that rule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three months of pregnancy = still a woman’s right = legal to ab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53352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 rot="631800">
            <a:off x="7772400" y="5029200"/>
            <a:ext cx="104292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36232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During the 1960s and 1970s, a large number of American women organized to push for greater rights and opportunities in soc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676520" y="4495680"/>
            <a:ext cx="6933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omen belong in the house... and the Sen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~Author Unknow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743200" y="6858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e my body as an instrument, rather than an orn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Alanis Moris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762120" y="2057400"/>
            <a:ext cx="5181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ou don't have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nti-man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ro-wo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~Jane Galvi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752480" y="1295280"/>
            <a:ext cx="5718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t was we, the people; not we, the white male citizens; nor yet we, the male citizens; but we, the whole people, who formed the Union.... Men, their rights and nothing more; women, their rights and nothing l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~Susan B. Antho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1:06:41Z</dcterms:created>
  <dc:creator>Administrator</dc:creator>
  <dc:description/>
  <dc:language>en-US</dc:language>
  <cp:lastModifiedBy>Administrator</cp:lastModifiedBy>
  <dcterms:modified xsi:type="dcterms:W3CDTF">2013-04-22T13:39:04Z</dcterms:modified>
  <cp:revision>13</cp:revision>
  <dc:subject/>
  <dc:title>Slide 1</dc:title>
</cp:coreProperties>
</file>